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8C85-F9C7-48E8-B0F3-822D12ED3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WF file is “embedded” in a web page using an &lt;object&gt; tag (for IE Win) and an &lt;embed&gt; tag (for all other browsers). With the FlashVars approach, the data to load into the SWF file is placed inside the HTML within these tag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FlashVars data to HTML page (&lt;param name="flashvars" value=" url-variable-string "&gt;; flashvars="url-variable-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agically” created in ActionScript when SWF load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easy to send data to ser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s away from SW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nly send data with G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nd and load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re-use; reload/refresh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have to deal with String manipulation (in ActionScrip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tring variables (all others must be co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icult to use with arbitrary-length sets of dat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only is basically like getURL() with the possibility of using POST – it’s like being able to create an HTML form in Flash. I believe this is the approach that’s used by ColdFusion Flash forms, since that’s their behavior (the form is a SWF, but it is submitted as an http POST and data is retreived as though it was an HTML for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 file LoadVars.fla (it demonstrates sending and loading together, using a single obj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data format (variable names); create test data fi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LoadVars insta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onLoad event handler (callback) function – this will contain the actions that should happen when the data loads (e.g. parsing data, updating UI, etc.)</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ed variables will “magically” become properties of LoadVars insta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load() (or .sendAndLoad()) with URL [, target object, metho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with static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dynamic data source – can even test from browser (using web form or using GET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nd and load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re-use; reload/refresh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have to deal with String manipulation (in ActionScrip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ave structured, complex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tring values (all others must be co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plex to parse XML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ways this topic is more about web and database programming that ActionScript program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lash Player can do is send/receive messages over http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know (or have access to someone who knows) something about “dynamic” web page programming (e.g. ASP.NET, php, J2EE, ColdFus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to perform are identical, except that the data that you send is created by manipulating/building an XML object, and the data you retrieve when it’s loaded is accessed by traversing the XML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XML.fla to LoadVars.f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XML is obviously overkill – it takes a lot of extra work just to create two values to send, or extract two loaded values.  XML is much better (compared to LoadVars) for structured sets of data rather than a few discret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ML objects in general it makes much more sense to use separate objects for sending and loading, since the XML object only has one XML document inside it, so if you send one document, when it’s loaded the sent document will be replaced by the load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you’ll want to load a large set of data (so XML would be a better choice) but you only want to send a few values to the server, such as filter values for a report (so LoadVars would be preferable).  This is multiplied by the fact that it’s not only more burdensome to parse XML in ActionScript, but it’s equally more difficult on the server side to extract values sent in XML if only simple values are passed to the serv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oth LoadVars and XML, when you’re using .sendAndLoad() you must specify a “target” (or receiver) object (which can be the same as the sender, but doesn’t have to be).  In fact, the objects don’t even have to be the same type – the sender can be a LoadVars object, even if the receiver is an XML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s because ultimately (I believe) in the internals of the Flash Player the LoadVars object and the XML object are nearly identical – the only difference is that they use a different format for converting data when loading or sending via http (and the XML object also has additional methods and properties related to XML manipulation).  This similarity is clearly manifested based on the fact that they’re both used in very similar ways, and also based on the fact that both of them have a way to override the default format conversion (at least when loading dat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Socket is a way to use socket communication, which is a more low-level connection between the server and the client For instance, http is one protocol that communicates using sockets, and part of http is that it makes a socket connection, transfers its data, then disconnects the socket. With XMLSocket, you can create persistent connections that don’t disconnect, so this technique is commonly used for applications like chat or other real-time sharing where you want the server to be able to send messages to Flash Player without Flash Player asking for them first.  However, it requires a server application that can listen for socket connections and communicate using them. Several commercial and free products have been made; common ones are Unity (commercial – see http://www.moock.org/unity/) and Electroserver (free for limited users – see http://www.electro-server.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Object is another object type in ActionScript, which serves two purposes. Local shared objects are like a cookie in a web browser: they store information persistently on a single computer. Remote shared objects, used in conjunction with Flash Media Server, allow you to define data that is shared across multiple Flash Players on multiple computers. If the data changes on one computer, the server updates the data on all the other computers.  Again, this technology is often used for multi-user shared-data application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communication formats used by computers, and new ones are being created regularly. Many of these use http for the transport mechanism – it’s just the format of the data that’s different. Developers can (and have) created ActionScript code that allows you to work with these other formats as well.  However, down in the internals of that code, it will always be using one of the built-in communication formats, and just adds a layer on top of the built in functionalit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ike calling a function – don’t have to worry about details of transport mechanism or format (in ActionScript or ser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work for computer – Flash Player (ActionScript) has to transform encoding format to function cal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F is faster and more efficient than any other format, because it uses a binary format (so the messages between Flash Player and server are usually smaller), and because the format is built into Flash Player so the process of transforming the AMF message into ActionScript objects is handled by code that’s built in rather than code that a developer has written, that’s running in ActionScript. (In general, native code will always be much faster than “interpreted” ActionScript cod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MF examp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is an XML format for RPC messages, that’s supported by practically all server systems. Flash 8 comes with a set of server components that make working with SOAP fairly straightforward – you call methods on the SOAP object as though they’re methods of the object, and the object does the work of translating the call into XML, sending it to the server, processing the reply, and turning it back into ActionScript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RPC is similar to SOAP; it’s less complex meaning messages are generally smaller but it’s also less flexible.  I’ve written an XML-RPC client implementation for ActionScript (http://probertson.com/projects/xmlrpc/), and another one (http://sourceforge.net/projects/xmlrpcflash/) is available as well. (both are free and open sour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ve pointed out, in ActionScript 2 the XML and LoadVars objects are very similar, and my guess is that internally they use much of the same code. Others must have noted this redundancy as well; in ActionScript 3 the loading and communication aspects are handled by the URLLoader class, and objects such as the XML and URLVariables classes handled the data formatting and manipulation aspects of Flash-data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ew in AS3 is the ability to load and access data in binary form, meaning formats that are based on binary rather than text messages can be used; and a new Socket class allows for sending and receiving binary data via sockets (as opposed to text-only data that is allowed by the ActionScript 2 XMLSocket clas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4x is a way of manipulating XML data. In contrast to the more common XML DOM approach of ActionScript 2, which requires you to use tree-based constructs like child, node, parent, sibling, etc. to traverse data, e4x allows you to treat nodes of an XML document by node name, as though the nodes themselves were named variab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data” (broad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loading SWF files or images (server can dynamically determine which image/swf to load)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F3 is a new version of AMF, which allows for even smaller messages. The old format, now known as AMF0, is also supported in the play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robertson.com/ is where I post links to information I’ve found useful, and occasional articles and tutorials about ActionScript, web development, interaction design, et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also a regular attendee at IUMMUG meetings, and I read the email discussion lists so feel free to send questions to the list, where lots of smart people ar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ransport” is the answer to the first question; “Format” is the answer to the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lash Player/ActionScript, transport is almost always identical; the difference between most of the techniques has to do with the format of the dat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domain rules: a SWF from one domain (e.g. http://foo.indiana.edu/) can’t load data from a different domain (e.g. http://www.google.com/, or even http://www.indiana.edu/) without explicit permission. The server from which the data is being loaded must grant this permission, using a special file known as a crossdomain.xml file (search Flash Help for this term for more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sandbox rules: These apply when you’re running a SWF from your local hard drive, rather than from a web page. SWF files are set to load local files only or remote files only – if you want to load the other type, it won’t work and you’ll get an error message. There are several workarounds, and the good news is that this only affects SWF files running on a local computer (so it won’t affect users unless they download your SWF file to their local machine – it will affect you as a developer, howe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generic video p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other approach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creat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to simulate/tes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quire extra server page in addition to HTML contain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for reusable container SW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test in standalone Flash Play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nly pass in values at initial load (no way to “re-quer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pass data out of SWF</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cy between SWF and HTML page (variable names must match)</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s browser cache if variable is different (url variable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player 5+ (url variables); 6+ (FlashVa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1A1C3-7616-4E7B-8806-44B4AA881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C284A-AA7A-4E5F-9B0F-E510C3249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B62D5-6CB7-4D18-B1F9-8D3CB71D6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5A5C1-563F-4C43-981E-93414BBEA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226F2-3FB2-4578-8395-415190856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531AC-5801-4E51-8042-DDB61A2D4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0F17E-9807-46E0-825A-CB1C01997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D0595-4F4D-4E46-9C1A-AAC2CB68A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77462-E63F-4978-B8B9-D2532456E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525D-9DFC-4E3C-988B-42C4D2A08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8D224-A8E5-435D-8C16-F1C690107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F62F-766A-41E1-8E16-022CEEEF9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E41D-68EA-46CB-8082-33FF2A54B3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flashorb.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amfphp.org/" TargetMode="External"/><Relationship Id="rId2" Type="http://schemas.openxmlformats.org/officeDocument/2006/relationships/hyperlink" Target="http://openamf.org/" TargetMode="External"/><Relationship Id="rId3" Type="http://schemas.openxmlformats.org/officeDocument/2006/relationships/hyperlink" Target="http://osflash.org/" TargetMode="External"/><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probertson.com/"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Flash – data communication</a:t>
            </a:r>
            <a:endParaRPr b="0" lang="en-US" sz="4400" spc="-1" strike="noStrike">
              <a:solidFill>
                <a:srgbClr val="d1d1cb"/>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 Paul Robert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eview: SWF in web page</a:t>
            </a:r>
            <a:endParaRPr b="0" lang="en-US" sz="4400" spc="-1" strike="noStrike">
              <a:solidFill>
                <a:srgbClr val="d1d1cb"/>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e Mono"/>
              </a:rPr>
              <a:t>&lt;object&gt;</a:t>
            </a:r>
            <a:r>
              <a:rPr b="0" lang="en-US" sz="3200" spc="-1" strike="noStrike">
                <a:solidFill>
                  <a:srgbClr val="ffffff"/>
                </a:solidFill>
                <a:latin typeface="Arial"/>
              </a:rPr>
              <a:t> and </a:t>
            </a:r>
            <a:r>
              <a:rPr b="0" lang="en-US" sz="3200" spc="-1" strike="noStrike">
                <a:solidFill>
                  <a:srgbClr val="ffffff"/>
                </a:solidFill>
                <a:latin typeface="Andale Mono"/>
              </a:rPr>
              <a:t>&lt;embed&g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a:t>
            </a:r>
            <a:endParaRPr b="0" lang="en-US" sz="4400" spc="-1" strike="noStrike">
              <a:solidFill>
                <a:srgbClr val="d1d1cb"/>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FlashVars to HTML code</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magically” created in ActionScript</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don’t forget to uncheck “publish 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extending</a:t>
            </a:r>
            <a:endParaRPr b="0" lang="en-US" sz="4400" spc="-1" strike="noStrike">
              <a:solidFill>
                <a:srgbClr val="d1d1cb"/>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ng in “Arrays”</a:t>
            </a:r>
            <a:endParaRPr b="0" lang="en-US" sz="32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delimiter in HTML</a:t>
            </a:r>
            <a:endParaRPr b="0" lang="en-US" sz="2800" spc="-1" strike="noStrike">
              <a:solidFill>
                <a:srgbClr val="ffffff"/>
              </a:solidFill>
              <a:latin typeface="Arial"/>
            </a:endParaRPr>
          </a:p>
          <a:p>
            <a:pPr lvl="1" marL="990720" indent="-53352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t>
            </a:r>
            <a:r>
              <a:rPr b="0" lang="en-US" sz="2800" spc="-1" strike="noStrike">
                <a:solidFill>
                  <a:srgbClr val="ffffff"/>
                </a:solidFill>
                <a:latin typeface="Andale Mono"/>
              </a:rPr>
              <a:t>String.split()</a:t>
            </a:r>
            <a:r>
              <a:rPr b="0" lang="en-US" sz="2800" spc="-1" strike="noStrike">
                <a:solidFill>
                  <a:srgbClr val="ffffff"/>
                </a:solidFill>
                <a:latin typeface="Arial"/>
              </a:rPr>
              <a:t> in 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elated: SWF url variables</a:t>
            </a:r>
            <a:endParaRPr b="0" lang="en-US" sz="4400" spc="-1" strike="noStrike">
              <a:solidFill>
                <a:srgbClr val="d1d1cb"/>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variables to SWF url:</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e Mono"/>
              </a:rPr>
              <a:t>movie.swf?var1=value1&amp;var2=value2</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SWF to download (overrides cach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ndale Mono"/>
              </a:rPr>
              <a:t>getURL()</a:t>
            </a:r>
            <a:endParaRPr b="0" lang="en-US" sz="4400" spc="-1" strike="noStrike">
              <a:solidFill>
                <a:srgbClr val="d1d1cb"/>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vigates to a url (equivalent to HTML lin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 link, can append variables to ur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ex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LoadVars</a:t>
            </a:r>
            <a:endParaRPr b="0" lang="en-US" sz="4400" spc="-1" strike="noStrike">
              <a:solidFill>
                <a:srgbClr val="d1d1cb"/>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SWF: http request (GET or POST)</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can’t distinguish between Flash Player and an HTML form</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WF: identical to FlashVars (url variab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ptions</a:t>
            </a:r>
            <a:endParaRPr b="0" lang="en-US" sz="4400" spc="-1" strike="noStrike">
              <a:solidFill>
                <a:srgbClr val="d1d1cb"/>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ad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d and load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d data only (redirects brows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 (loading)</a:t>
            </a:r>
            <a:endParaRPr b="0" lang="en-US" sz="4400" spc="-1" strike="noStrike">
              <a:solidFill>
                <a:srgbClr val="d1d1cb"/>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ading:</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data format (variables)</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test data file</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LoadVars instance</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onLoad() handler (where stuff happens after loading)</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a:t>
            </a:r>
            <a:r>
              <a:rPr b="0" lang="en-US" sz="2800" spc="-1" strike="noStrike">
                <a:solidFill>
                  <a:srgbClr val="ffffff"/>
                </a:solidFill>
                <a:latin typeface="Andale Mono"/>
              </a:rPr>
              <a:t>.load()</a:t>
            </a:r>
            <a:r>
              <a:rPr b="0" lang="en-US" sz="2800" spc="-1" strike="noStrike">
                <a:solidFill>
                  <a:srgbClr val="ffffff"/>
                </a:solidFill>
                <a:latin typeface="Arial"/>
              </a:rPr>
              <a:t> or </a:t>
            </a:r>
            <a:r>
              <a:rPr b="0" lang="en-US" sz="2800" spc="-1" strike="noStrike">
                <a:solidFill>
                  <a:srgbClr val="ffffff"/>
                </a:solidFill>
                <a:latin typeface="Andale Mono"/>
              </a:rPr>
              <a:t>.sendAndLoad()</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ndale Mono"/>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e Mono"/>
              </a:rPr>
              <a:t>Test (static)</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ndale Mono"/>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e Mono"/>
              </a:rPr>
              <a:t>Test (l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 (sending)</a:t>
            </a:r>
            <a:endParaRPr b="0" lang="en-US" sz="4400" spc="-1" strike="noStrike">
              <a:solidFill>
                <a:srgbClr val="d1d1cb"/>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LoadVars inst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data-to-send as properties (name must match the name server expe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a:t>
            </a:r>
            <a:r>
              <a:rPr b="0" lang="en-US" sz="3200" spc="-1" strike="noStrike">
                <a:solidFill>
                  <a:srgbClr val="ffffff"/>
                </a:solidFill>
                <a:latin typeface="Andale Mono"/>
              </a:rPr>
              <a:t>.sendAndLoad()</a:t>
            </a:r>
            <a:r>
              <a:rPr b="0" lang="en-US" sz="3200" spc="-1" strike="noStrike">
                <a:solidFill>
                  <a:srgbClr val="ffffff"/>
                </a:solidFill>
                <a:latin typeface="Arial"/>
              </a:rPr>
              <a:t> or </a:t>
            </a:r>
            <a:r>
              <a:rPr b="0" lang="en-US" sz="3200" spc="-1" strike="noStrike">
                <a:solidFill>
                  <a:srgbClr val="ffffff"/>
                </a:solidFill>
                <a:latin typeface="Andale Mono"/>
              </a:rPr>
              <a:t>.lo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XML</a:t>
            </a:r>
            <a:endParaRPr b="0" lang="en-US" sz="4400" spc="-1" strike="noStrike">
              <a:solidFill>
                <a:srgbClr val="d1d1cb"/>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SWF: XML document (via http PO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WF: XML docu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disclaimer</a:t>
            </a:r>
            <a:endParaRPr b="0" lang="en-US" sz="4400" spc="-1" strike="noStrike">
              <a:solidFill>
                <a:srgbClr val="d1d1cb"/>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 Player can only send/receive http messa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dynamic” web page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eview: XML</a:t>
            </a:r>
            <a:endParaRPr b="0" lang="en-US" sz="4400" spc="-1" strike="noStrike">
              <a:solidFill>
                <a:srgbClr val="d1d1cb"/>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d document; text bas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e Mono"/>
              </a:rPr>
              <a:t>&lt;employee&gt;</a:t>
            </a:r>
            <a:br>
              <a:rPr sz="3200"/>
            </a:br>
            <a:r>
              <a:rPr b="0" lang="en-US" sz="3200" spc="-1" strike="noStrike">
                <a:solidFill>
                  <a:srgbClr val="ffffff"/>
                </a:solidFill>
                <a:latin typeface="Andale Mono"/>
              </a:rPr>
              <a:t>	</a:t>
            </a:r>
            <a:r>
              <a:rPr b="0" lang="en-US" sz="3200" spc="-1" strike="noStrike">
                <a:solidFill>
                  <a:srgbClr val="ffffff"/>
                </a:solidFill>
                <a:latin typeface="Andale Mono"/>
              </a:rPr>
              <a:t>&lt;name&gt;Paul Robertson&lt;/name&gt;</a:t>
            </a:r>
            <a:br>
              <a:rPr sz="3200"/>
            </a:br>
            <a:r>
              <a:rPr b="0" lang="en-US" sz="3200" spc="-1" strike="noStrike">
                <a:solidFill>
                  <a:srgbClr val="ffffff"/>
                </a:solidFill>
                <a:latin typeface="Andale Mono"/>
              </a:rPr>
              <a:t>	</a:t>
            </a:r>
            <a:r>
              <a:rPr b="0" lang="en-US" sz="3200" spc="-1" strike="noStrike">
                <a:solidFill>
                  <a:srgbClr val="ffffff"/>
                </a:solidFill>
                <a:latin typeface="Andale Mono"/>
              </a:rPr>
              <a:t>&lt;hiredate&gt;6/1/2004&lt;/hiredate&gt;</a:t>
            </a:r>
            <a:br>
              <a:rPr sz="3200"/>
            </a:br>
            <a:r>
              <a:rPr b="0" lang="en-US" sz="3200" spc="-1" strike="noStrike">
                <a:solidFill>
                  <a:srgbClr val="ffffff"/>
                </a:solidFill>
                <a:latin typeface="Andale Mono"/>
              </a:rPr>
              <a:t>&lt;/employee&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ptions</a:t>
            </a:r>
            <a:endParaRPr b="0" lang="en-US" sz="4400" spc="-1" strike="noStrike">
              <a:solidFill>
                <a:srgbClr val="d1d1cb"/>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LoadVar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e Mono"/>
              </a:rPr>
              <a:t>send()</a:t>
            </a:r>
            <a:r>
              <a:rPr b="0" lang="en-US" sz="2800" spc="-1" strike="noStrike">
                <a:solidFill>
                  <a:srgbClr val="ffffff"/>
                </a:solidFill>
                <a:latin typeface="Arial"/>
              </a:rPr>
              <a:t> (redirects browser)</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e Mono"/>
              </a:rPr>
              <a:t>load()</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e Mono"/>
              </a:rPr>
              <a:t>sendAndLo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a:t>
            </a:r>
            <a:endParaRPr b="0" lang="en-US" sz="4400" spc="-1" strike="noStrike">
              <a:solidFill>
                <a:srgbClr val="d1d1cb"/>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cal to LoadVars, except for defining and retrieving valu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XML object metho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ixing LoadVars and XML</a:t>
            </a:r>
            <a:endParaRPr b="0" lang="en-US" sz="4400" spc="-1" strike="noStrike">
              <a:solidFill>
                <a:srgbClr val="d1d1cb"/>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SWF: http GET or POS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WF: XM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a:t>
            </a:r>
            <a:endParaRPr b="0" lang="en-US" sz="4400" spc="-1" strike="noStrike">
              <a:solidFill>
                <a:srgbClr val="d1d1cb"/>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XML and LoadVa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adVars for send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XML for receiv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t>
            </a:r>
            <a:r>
              <a:rPr b="0" lang="en-US" sz="3200" spc="-1" strike="noStrike">
                <a:solidFill>
                  <a:srgbClr val="ffffff"/>
                </a:solidFill>
                <a:latin typeface="Andale Mono"/>
              </a:rPr>
              <a:t>LoadVars.sendAndLoad()</a:t>
            </a:r>
            <a:r>
              <a:rPr b="0" lang="en-US" sz="3200" spc="-1" strike="noStrike">
                <a:solidFill>
                  <a:srgbClr val="ffffff"/>
                </a:solidFill>
                <a:latin typeface="Arial"/>
              </a:rPr>
              <a:t>, specify XML object as receiver (parameter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ther native formats</a:t>
            </a:r>
            <a:endParaRPr b="0" lang="en-US" sz="4400" spc="-1" strike="noStrike">
              <a:solidFill>
                <a:srgbClr val="d1d1cb"/>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Sock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dObject (Flash Media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non-native formats</a:t>
            </a:r>
            <a:endParaRPr b="0" lang="en-US" sz="4400" spc="-1" strike="noStrike">
              <a:solidFill>
                <a:srgbClr val="d1d1cb"/>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er on top of low-level form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they wor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based: just use XML object internal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t-based: use </a:t>
            </a:r>
            <a:r>
              <a:rPr b="0" lang="en-US" sz="2800" spc="-1" strike="noStrike">
                <a:solidFill>
                  <a:srgbClr val="ffffff"/>
                </a:solidFill>
                <a:latin typeface="Andale Mono"/>
              </a:rPr>
              <a:t>LoadVars.on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PC formats</a:t>
            </a:r>
            <a:endParaRPr b="0" lang="en-US" sz="4400" spc="-1" strike="noStrike">
              <a:solidFill>
                <a:srgbClr val="d1d1cb"/>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PC (Remote Procedure Ca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calling a function (that happens to live on another serv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MF (Flash Remoting)</a:t>
            </a:r>
            <a:endParaRPr b="0" lang="en-US" sz="4400" spc="-1" strike="noStrike">
              <a:solidFill>
                <a:srgbClr val="d1d1cb"/>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F (proprietary, native, binary form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mplementations</a:t>
            </a:r>
            <a:endParaRPr b="0" lang="en-US" sz="4400" spc="-1" strike="noStrike">
              <a:solidFill>
                <a:srgbClr val="d1d1cb"/>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romedia Flash Remoting Server (Java, .N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Orb (.NET) – </a:t>
            </a:r>
            <a:r>
              <a:rPr b="0" lang="en-US" sz="2800" spc="-1" strike="noStrike" u="sng">
                <a:solidFill>
                  <a:srgbClr val="ffcc66"/>
                </a:solidFill>
                <a:uFillTx/>
                <a:latin typeface="Arial"/>
                <a:hlinkClick r:id="rId1"/>
              </a:rPr>
              <a:t>http://flashorb.c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Fusion Server (built 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ttp communication</a:t>
            </a:r>
            <a:endParaRPr b="0" lang="en-US" sz="4400" spc="-1" strike="noStrike">
              <a:solidFill>
                <a:srgbClr val="d1d1cb"/>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for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vs. PO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er-side process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no-charge</a:t>
            </a:r>
            <a:endParaRPr b="0" lang="en-US" sz="4400" spc="-1" strike="noStrike">
              <a:solidFill>
                <a:srgbClr val="d1d1cb"/>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FPHP (php) – </a:t>
            </a:r>
            <a:r>
              <a:rPr b="0" lang="en-US" sz="3200" spc="-1" strike="noStrike" u="sng">
                <a:solidFill>
                  <a:srgbClr val="ffcc66"/>
                </a:solidFill>
                <a:uFillTx/>
                <a:latin typeface="Arial"/>
                <a:hlinkClick r:id="rId1"/>
              </a:rPr>
              <a:t>http://amfphp.or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AMF (Java) – </a:t>
            </a:r>
            <a:r>
              <a:rPr b="0" lang="en-US" sz="3200" spc="-1" strike="noStrike" u="sng">
                <a:solidFill>
                  <a:srgbClr val="ffcc66"/>
                </a:solidFill>
                <a:uFillTx/>
                <a:latin typeface="Arial"/>
                <a:hlinkClick r:id="rId2"/>
              </a:rPr>
              <a:t>http://openamf.or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orine, AMF.NET (.N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s – </a:t>
            </a:r>
            <a:r>
              <a:rPr b="0" lang="en-US" sz="3200" spc="-1" strike="noStrike" u="sng">
                <a:solidFill>
                  <a:srgbClr val="ffcc66"/>
                </a:solidFill>
                <a:uFillTx/>
                <a:latin typeface="Arial"/>
                <a:hlinkClick r:id="rId3"/>
              </a:rPr>
              <a:t>http://osflash.or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 (server)</a:t>
            </a:r>
            <a:endParaRPr b="0" lang="en-US" sz="4400" spc="-1" strike="noStrike">
              <a:solidFill>
                <a:srgbClr val="d1d1cb"/>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es by implement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define a class with methods that can be called remot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 (Flash)</a:t>
            </a:r>
            <a:endParaRPr b="0" lang="en-US" sz="4400" spc="-1" strike="noStrike">
              <a:solidFill>
                <a:srgbClr val="d1d1cb"/>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Remoting compon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g component into library (st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code (cont.) (or use component proper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 (Flash) (cont.)</a:t>
            </a:r>
            <a:endParaRPr b="0" lang="en-US" sz="4400" spc="-1" strike="noStrike">
              <a:solidFill>
                <a:srgbClr val="d1d1cb"/>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listener object with two functions, “result()” and “er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Service instance (url, service na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PendingCall (represents actual function ca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Responder (to tie event handler to PendingC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other RPC formats</a:t>
            </a:r>
            <a:endParaRPr b="0" lang="en-US" sz="4400" spc="-1" strike="noStrike">
              <a:solidFill>
                <a:srgbClr val="d1d1cb"/>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A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RP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SON-RP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1d1cb"/>
                </a:solidFill>
                <a:latin typeface="Arial"/>
              </a:rPr>
              <a:t>look into the future…</a:t>
            </a:r>
            <a:endParaRPr b="0" lang="en-US" sz="4400" spc="-1" strike="noStrike">
              <a:solidFill>
                <a:srgbClr val="d1d1cb"/>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 2.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onScript 3.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Flex 2.0 Components</a:t>
            </a:r>
            <a:endParaRPr b="0" lang="en-US" sz="4400" spc="-1" strike="noStrike">
              <a:solidFill>
                <a:srgbClr val="d1d1cb"/>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 to ActionScript compon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d in MX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how to do it (HTTPService)</a:t>
            </a:r>
            <a:endParaRPr b="0" lang="en-US" sz="4400" spc="-1" strike="noStrike">
              <a:solidFill>
                <a:srgbClr val="d1d1cb"/>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HTTPService component (url, form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result event handler fun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l </a:t>
            </a:r>
            <a:r>
              <a:rPr b="0" lang="en-US" sz="3200" spc="-1" strike="noStrike">
                <a:solidFill>
                  <a:srgbClr val="ffffff"/>
                </a:solidFill>
                <a:latin typeface="Andale Mono"/>
              </a:rPr>
              <a:t>.se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ctionScript 3.0</a:t>
            </a:r>
            <a:endParaRPr b="0" lang="en-US" sz="4400" spc="-1" strike="noStrike">
              <a:solidFill>
                <a:srgbClr val="d1d1cb"/>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net.URLLoader for loa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ed data is parsed into specified format (text, binary,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aded data in </a:t>
            </a:r>
            <a:r>
              <a:rPr b="0" lang="en-US" sz="2800" spc="-1" strike="noStrike">
                <a:solidFill>
                  <a:srgbClr val="ffffff"/>
                </a:solidFill>
                <a:latin typeface="Andale Mono"/>
              </a:rPr>
              <a:t>.data</a:t>
            </a:r>
            <a:r>
              <a:rPr b="0" lang="en-US" sz="2800" spc="-1" strike="noStrike">
                <a:solidFill>
                  <a:srgbClr val="ffffff"/>
                </a:solidFill>
                <a:latin typeface="Arial"/>
              </a:rPr>
              <a:t> propert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ther objects for manipulation (XML, URL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ctionScript 3.0</a:t>
            </a:r>
            <a:endParaRPr b="0" lang="en-US" sz="4400" spc="-1" strike="noStrike">
              <a:solidFill>
                <a:srgbClr val="d1d1cb"/>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4x</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ld:</a:t>
            </a:r>
            <a:br>
              <a:rPr sz="2400"/>
            </a:br>
            <a:r>
              <a:rPr b="0" lang="en-US" sz="2400" spc="-1" strike="noStrike">
                <a:solidFill>
                  <a:srgbClr val="ffffff"/>
                </a:solidFill>
                <a:latin typeface="Andale Mono"/>
              </a:rPr>
              <a:t>result1 = receiver.firstChild.firstChild.firstChild.nodeValu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w: </a:t>
            </a:r>
            <a:r>
              <a:rPr b="0" lang="en-US" sz="2800" spc="-1" strike="noStrike">
                <a:solidFill>
                  <a:srgbClr val="ffffff"/>
                </a:solidFill>
                <a:latin typeface="Andale Mono"/>
              </a:rPr>
              <a:t>result1 = receiver.results.result1;</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what is data?</a:t>
            </a:r>
            <a:endParaRPr b="0" lang="en-US" sz="4400" spc="-1" strike="noStrike">
              <a:solidFill>
                <a:srgbClr val="d1d1cb"/>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 can also load SWF files/images by calling url:</a:t>
            </a:r>
            <a:endParaRPr b="0" lang="en-US" sz="3200" spc="-1" strike="noStrike">
              <a:solidFill>
                <a:srgbClr val="ffffff"/>
              </a:solidFill>
              <a:latin typeface="Arial"/>
            </a:endParaRPr>
          </a:p>
          <a:p>
            <a:pPr marL="343080" indent="-343080">
              <a:lnSpc>
                <a:spcPct val="100000"/>
              </a:lnSpc>
              <a:spcBef>
                <a:spcPts val="799"/>
              </a:spcBef>
              <a:buClr>
                <a:srgbClr val="ffffff"/>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e Mono"/>
              </a:rPr>
              <a:t>loadMovie("mymovie.swf");</a:t>
            </a:r>
            <a:endParaRPr b="0" lang="en-US" sz="3200" spc="-1" strike="noStrike">
              <a:solidFill>
                <a:srgbClr val="ffffff"/>
              </a:solidFill>
              <a:latin typeface="Arial"/>
            </a:endParaRPr>
          </a:p>
          <a:p>
            <a:pPr marL="343080" indent="-343080">
              <a:lnSpc>
                <a:spcPct val="100000"/>
              </a:lnSpc>
              <a:spcBef>
                <a:spcPts val="799"/>
              </a:spcBef>
              <a:buClr>
                <a:srgbClr val="ffffff"/>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e Mono"/>
              </a:rPr>
              <a:t>loadMovie("mymovie.php?swf=2");</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ActionScript 3.0</a:t>
            </a:r>
            <a:endParaRPr b="0" lang="en-US" sz="4400" spc="-1" strike="noStrike">
              <a:solidFill>
                <a:srgbClr val="d1d1cb"/>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F 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hanks!</a:t>
            </a:r>
            <a:endParaRPr b="0" lang="en-US" sz="4400" spc="-1" strike="noStrike">
              <a:solidFill>
                <a:srgbClr val="d1d1cb"/>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n’t get enoug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Arial"/>
                <a:hlinkClick r:id="rId1"/>
              </a:rPr>
              <a:t>http://probertson.com/</a:t>
            </a:r>
            <a:r>
              <a:rPr b="0" lang="en-US" sz="2800" spc="-1" strike="noStrike" u="sng">
                <a:solidFill>
                  <a:srgbClr val="ffffff"/>
                </a:solidFill>
                <a:uFillTx/>
                <a:latin typeface="Arial"/>
              </a:rPr>
              <a:t> is where I post links to information I’ve found useful, and occasional articles and tutorials about ActionScript, web development, interaction design,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transport vs. format</a:t>
            </a:r>
            <a:endParaRPr b="0" lang="en-US" sz="4400" spc="-1" strike="noStrike">
              <a:solidFill>
                <a:srgbClr val="d1d1cb"/>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the data travel between server and Flash Play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e raw data look lik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ecurity</a:t>
            </a:r>
            <a:endParaRPr b="0" lang="en-US" sz="4400" spc="-1" strike="noStrike">
              <a:solidFill>
                <a:srgbClr val="d1d1cb"/>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ss-domain rul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urity sandbox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native formats</a:t>
            </a:r>
            <a:endParaRPr b="0" lang="en-US" sz="4400" spc="-1" strike="noStrike">
              <a:solidFill>
                <a:srgbClr val="d1d1cb"/>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x-www-form-urlencoded</a:t>
            </a:r>
            <a:br>
              <a:rPr sz="3200"/>
            </a:br>
            <a:r>
              <a:rPr b="0" lang="en-US" sz="3200" spc="-1" strike="noStrike">
                <a:solidFill>
                  <a:srgbClr val="ffffff"/>
                </a:solidFill>
                <a:latin typeface="Arial"/>
              </a:rPr>
              <a:t>(aka “url variables,” “querystring,” “FlashVa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FlashVars</a:t>
            </a:r>
            <a:endParaRPr b="0" lang="en-US" sz="4400" spc="-1" strike="noStrike">
              <a:solidFill>
                <a:srgbClr val="d1d1cb"/>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passed in when SWF loa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review: url variable format</a:t>
            </a:r>
            <a:endParaRPr b="0" lang="en-US" sz="4400" spc="-1" strike="noStrike">
              <a:solidFill>
                <a:srgbClr val="d1d1cb"/>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1=value1&amp;var2=value2&am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g. Search engine ur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16:11:29Z</dcterms:created>
  <dc:creator>H. Paul Robertson</dc:creator>
  <dc:description/>
  <dc:language>en-US</dc:language>
  <cp:lastModifiedBy>Robertson</cp:lastModifiedBy>
  <dcterms:modified xsi:type="dcterms:W3CDTF">2006-05-30T16:30:57Z</dcterms:modified>
  <cp:revision>66</cp:revision>
  <dc:subject/>
  <dc:title>Flash – data communication</dc:title>
</cp:coreProperties>
</file>